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8DD5-39D9-4EBB-8CE4-7A2AC2175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C27A-EB24-4D4D-AFD7-14C5852B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0172-52F0-41B9-9859-DC78CC699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D71E-07B7-496A-A91E-86F45926D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CED1-54E7-430C-ACFA-611E711B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A905-D7A3-431C-B013-40D17DAF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0290-751E-4E42-820E-4F3EFFA1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CDD9-A5F5-4DDF-9FE6-329B7EDC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EE5B-ADB5-4013-A3CE-052802F5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1453-794B-4A13-BB14-817E5B66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0876-A774-413C-B52A-F7685B65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9669-79F0-4B32-A37E-DD47A663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C992-FAEF-4DC4-BCB0-6D26D923D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coPlan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Engineering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rcise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Construct an Airplane that carries a choco-kiss as far as possible without harming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0120" y="304920"/>
            <a:ext cx="890640" cy="914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coplane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Requiremen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irplane has to f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irplane carries a  Cocoa-Ki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function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off is the porch area outside the seminar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coa-Kiss is not damaged at take-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ocoplane Project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teams with 6 participants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team builds its own solu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thing you can find at TUM or the Lidl-Supermarkt (shortly before  Garching) can be used to build the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Duration: 15:00 - 16:4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time: 15:00-15: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 testing: 15:45- 16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e Ston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ient Acceptance Test: 16:15-16: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ms perform their flights simultaneous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ation of the winner: 16: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ptance Cri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lane must prominently display the name of the subsystem te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lane must actually demonstrating flying behavior (throwing is not allow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coa-Kiss must be undamaged after l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lient inspects the Cocoa-Kiss after the plane has come to complete standstill and determines its healthin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am whose plane actually flies, and covers the longest distance wins a pr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stance is measured from the wall of the building to the first contact on the gr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rics used by the clien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e of Cocoa-Ki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damaged (0 points), undamaged (30 poi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ngth of fl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0 m: 0 points, 1-5 m: 30 points, 5-15 m: 40 points, 16-20 m: 50 points, 21 or more m: 60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auty of fl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Throwing: 0 points, Flying: 30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rew of Cocoa-Airlines wishes you a good f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397044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ment Labora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m 1:   Seminar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m 2:  Glas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m 3:  Aqua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m 4: Terra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m 5: Aura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06:34:36Z</dcterms:created>
  <dc:creator>Bernd Bruegge</dc:creator>
  <dc:description/>
  <dc:language>en-US</dc:language>
  <cp:lastModifiedBy>Bernd Bruegge</cp:lastModifiedBy>
  <dcterms:modified xsi:type="dcterms:W3CDTF">2006-05-03T07:07:54Z</dcterms:modified>
  <cp:revision>3</cp:revision>
  <dc:subject/>
  <dc:title>PowerPoint Presentation</dc:title>
</cp:coreProperties>
</file>